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70741"/>
        <c:axId val="77410854"/>
      </c:barChart>
      <c:catAx>
        <c:axId val="79370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10854"/>
        <c:crosses val="autoZero"/>
        <c:auto val="1"/>
        <c:lblAlgn val="ctr"/>
        <c:lblOffset val="100"/>
        <c:noMultiLvlLbl val="0"/>
      </c:catAx>
      <c:valAx>
        <c:axId val="77410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70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217-E71E-4FA5-9771-08344704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F9B-CE67-4770-A83B-1E395F2F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1D7-1334-4A75-A1FF-E7AA6DD9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F6F-FB69-434A-9911-90830C4E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5AD-0503-41C5-85FE-0FF27E81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B8E-54B1-4455-A610-C1AB7A32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073-A1B9-4964-A784-8258A3E8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B7DC-AE55-48CD-99F8-EC5D1161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9E5-AC81-47BA-A5D6-F1AED881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F0E-8EEB-4170-AF20-A2A638AC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7D5-06DF-4FC0-997F-CD773C4C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237-0BE3-47F7-A94D-B86788D6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03CC8-37B4-4CCA-A6BE-89A9703BC2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